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36F-7B95-4EED-AC30-981484C8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974-3A19-4EF0-867E-46C9C26B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B7E-2628-41A4-AE7D-5A75FE90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D42-3DB9-4332-B666-94E69429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1AE9-A08B-4EB4-A2ED-4E37A29D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BE61-2A7C-4087-9A8A-F62F0440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4A53-3D81-4D0A-9CCC-95C0AE83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D603-4F3C-4CE9-AF69-437DECF1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955A-9188-4E07-9CC6-0FF59BC0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C255-FBFC-44B8-B89D-0DB31E15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7403-C8D1-4CDF-8640-F7346440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B12-80A5-46DB-8AE1-DA742D02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8917-B75E-46B7-8BB9-70FBF302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1774-FD9B-4661-B679-A66EE6ED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9F68-42DD-4669-B1A1-25F861A5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A468-7F0C-4D89-9DE5-F7B19098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3C1C-913A-4067-A918-E12B5A68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68E5-CEB2-4AF1-9045-EF25C2D8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253C6-0C4D-4C72-8E6F-61FB521C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79B0-89D6-43C1-8D15-2D32EE14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DF1C-6AE8-4D57-BA1F-33A0BB19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747D-2862-4A41-8580-CA9597B5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70C-0166-484D-8DB1-572DC4AF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39448-07F8-4A4C-83C5-7A27AF84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25292-1D44-49C1-B9AD-D956A958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AEE1-7E2D-4127-B1A8-C687525E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12F2F-6DF4-475B-8E8B-30B118DA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F6F1-70BC-4FC1-8658-913770C8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5DA4E-3B6B-458B-920A-9A0E1CD3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35DE-3F32-43A3-BB85-162C4024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F6F5C-2CB8-462F-AFDE-6A647DB8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B3FC9-B5A3-4561-B315-476BC79C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78B21-B862-4A00-BB5A-71714C36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24F-5F18-44C3-8E8B-8ECC46BB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62E25-C6BE-40F2-8464-14EC28CF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10990-AE84-40A2-9ACC-4F405C40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3463B-14F9-422C-AA1D-94BE7A4E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648C1-4964-4744-BBB0-2734BCA6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D652E-B47C-4C7F-B13F-3AD080D4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9A43A-4CA5-45CA-B567-CB9C4CD1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60280-0AE0-4745-914A-1630CEF9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EDAAE-FC8B-4190-87F1-536711A1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70202-C454-4D80-98B4-DC2E164F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7DB-236A-43F9-AB3B-DCAF6611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42E-D4BC-44AE-B4BB-61239750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189-5DB1-44DB-81DF-562C5035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40B-48D3-491B-8960-BF4E544F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BBB-4E80-47A2-AB65-411B0214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DC3C-D3B5-4C92-A88A-7A3438761A2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8344-BBE2-4D9D-8E72-6CAF876E9D0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D3A8-8331-412C-A80E-78E6DDD7BD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8AAD-7D00-41ED-B76F-0B49B2C91A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lub-rukodelie.com/best/img/shali/shal6_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lub-rukodelie.com/best/sharf/index.htm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club-rukodelie.com/best/top/index.htm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" action="ppaction://hlinkshowjump?jump=endshow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332000" y="990720"/>
            <a:ext cx="6264360" cy="387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хнология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 класс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39528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3640" y="546588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1" lang="ru-RU" sz="1800" spc="-1" strike="noStrike">
                <a:solidFill>
                  <a:srgbClr val="25521e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25521e"/>
                </a:solidFill>
                <a:latin typeface="Arial"/>
              </a:rPr>
              <a:t>Автор-составитель, учитель технологии, первой квалификационной категории, СОШ №9 г. Набережные Челны, Л.П. Лаком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Белая шаль крючком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557360"/>
            <a:ext cx="2994120" cy="4464000"/>
          </a:xfrm>
          <a:prstGeom prst="rect">
            <a:avLst/>
          </a:prstGeom>
          <a:ln w="76320">
            <a:solidFill>
              <a:srgbClr val="25521e"/>
            </a:solidFill>
            <a:miter/>
          </a:ln>
        </p:spPr>
      </p:pic>
      <p:pic>
        <p:nvPicPr>
          <p:cNvPr id="212" name="" descr="Вязание крючком. Вязаные модели. Летние модели.Топ озорные полоски"/>
          <p:cNvPicPr/>
          <p:nvPr/>
        </p:nvPicPr>
        <p:blipFill>
          <a:blip r:embed="rId3"/>
          <a:stretch/>
        </p:blipFill>
        <p:spPr>
          <a:xfrm>
            <a:off x="5580000" y="404640"/>
            <a:ext cx="2879640" cy="4464360"/>
          </a:xfrm>
          <a:prstGeom prst="rect">
            <a:avLst/>
          </a:prstGeom>
          <a:ln w="76320">
            <a:solidFill>
              <a:srgbClr val="25521e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0" y="0"/>
            <a:ext cx="539640" cy="333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81280" y="56664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521e"/>
                </a:solidFill>
                <a:latin typeface="Arial"/>
              </a:rPr>
              <a:t>Ажурные ш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86760" y="5295960"/>
            <a:ext cx="30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521e"/>
                </a:solidFill>
                <a:latin typeface="Arial"/>
              </a:rPr>
              <a:t>Вязанные аксессу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5120" y="1268280"/>
            <a:ext cx="239688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8" name="" descr="Летние топик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04640"/>
            <a:ext cx="2519280" cy="468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0" y="0"/>
            <a:ext cx="468360" cy="333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398520"/>
            <a:ext cx="51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521e"/>
                </a:solidFill>
                <a:latin typeface="Arial"/>
              </a:rPr>
              <a:t>Разнообразие трикотажного гарде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11120" y="11905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62122" t="0" r="27347" b="0"/>
          <a:stretch/>
        </p:blipFill>
        <p:spPr>
          <a:xfrm>
            <a:off x="755640" y="981000"/>
            <a:ext cx="503280" cy="2808360"/>
          </a:xfrm>
          <a:prstGeom prst="rect">
            <a:avLst/>
          </a:prstGeom>
          <a:ln w="76320">
            <a:solidFill>
              <a:srgbClr val="e592ee"/>
            </a:solidFill>
            <a:miter/>
          </a:ln>
        </p:spPr>
      </p:pic>
      <p:sp>
        <p:nvSpPr>
          <p:cNvPr id="224" name=""/>
          <p:cNvSpPr txBox="1"/>
          <p:nvPr/>
        </p:nvSpPr>
        <p:spPr>
          <a:xfrm>
            <a:off x="1619280" y="290520"/>
            <a:ext cx="568944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99cc"/>
                  </a:solidFill>
                  <a:custDash>
                    <a:ds d="100000" sp="1000"/>
                  </a:custDash>
                  <a:miter/>
                </a:ln>
                <a:solidFill>
                  <a:srgbClr val="800080"/>
                </a:solidFill>
                <a:latin typeface="Impact"/>
              </a:rPr>
              <a:t>Виды крючков</a:t>
            </a:r>
            <a:endParaRPr b="0" lang="en-US" sz="1800" spc="1" strike="noStrike">
              <a:ln cap="rnd" w="9360">
                <a:solidFill>
                  <a:srgbClr val="ff99cc"/>
                </a:solidFill>
                <a:custDash>
                  <a:ds d="100000" sp="1000"/>
                </a:custDash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395280" cy="189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91800" y="128916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нкие из с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30520" y="3246480"/>
            <a:ext cx="230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лстые из алюминия, пластмассы,   дер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rcRect l="0" t="0" r="82142" b="0"/>
          <a:stretch/>
        </p:blipFill>
        <p:spPr>
          <a:xfrm>
            <a:off x="1512720" y="2924280"/>
            <a:ext cx="611280" cy="2881080"/>
          </a:xfrm>
          <a:prstGeom prst="rect">
            <a:avLst/>
          </a:prstGeom>
          <a:ln w="76320">
            <a:solidFill>
              <a:srgbClr val="e592ee"/>
            </a:solidFill>
            <a:miter/>
          </a:ln>
        </p:spPr>
      </p:pic>
      <p:sp>
        <p:nvSpPr>
          <p:cNvPr id="229" name=""/>
          <p:cNvSpPr/>
          <p:nvPr/>
        </p:nvSpPr>
        <p:spPr>
          <a:xfrm flipH="1">
            <a:off x="1403280" y="1700280"/>
            <a:ext cx="1152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340000" y="443700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rcRect l="13654" t="0" r="48428" b="0"/>
          <a:stretch/>
        </p:blipFill>
        <p:spPr>
          <a:xfrm>
            <a:off x="7162920" y="1268280"/>
            <a:ext cx="1296720" cy="4149720"/>
          </a:xfrm>
          <a:prstGeom prst="rect">
            <a:avLst/>
          </a:prstGeom>
          <a:ln w="57240">
            <a:solidFill>
              <a:srgbClr val="e592ee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4284720" y="1700280"/>
            <a:ext cx="2573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ючки   никелир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еют номера  от 0,6 до 1,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19640" y="2997360"/>
            <a:ext cx="1728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9640" y="260280"/>
            <a:ext cx="7925040" cy="1238040"/>
          </a:xfrm>
          <a:prstGeom prst="downArrowCallout">
            <a:avLst>
              <a:gd name="adj1" fmla="val -152207"/>
              <a:gd name="adj2" fmla="val 160032"/>
              <a:gd name="adj3" fmla="val 16667"/>
              <a:gd name="adj4" fmla="val 66667"/>
            </a:avLst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хника безопасности при вязании крюч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1704960"/>
            <a:ext cx="8534160" cy="3988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50000">
                <a:srgbClr val="c3e6c3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99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Содержите в порядке и чистоте рабочее мес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2492280"/>
            <a:ext cx="8534160" cy="398880"/>
          </a:xfrm>
          <a:prstGeom prst="rect">
            <a:avLst/>
          </a:prstGeom>
          <a:gradFill rotWithShape="0">
            <a:gsLst>
              <a:gs pos="0">
                <a:srgbClr val="a1a1e7"/>
              </a:gs>
              <a:gs pos="50000">
                <a:srgbClr val="ededf9"/>
              </a:gs>
              <a:gs pos="100000">
                <a:srgbClr val="a1a1e7"/>
              </a:gs>
            </a:gsLst>
            <a:lin ang="5400000"/>
          </a:gradFill>
          <a:ln w="9360">
            <a:solidFill>
              <a:srgbClr val="8eaafa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Будьте внимательны и не отвлекайте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3284640"/>
            <a:ext cx="8534160" cy="398880"/>
          </a:xfrm>
          <a:prstGeom prst="rect">
            <a:avLst/>
          </a:prstGeom>
          <a:gradFill rotWithShape="0">
            <a:gsLst>
              <a:gs pos="0">
                <a:srgbClr val="db4d61"/>
              </a:gs>
              <a:gs pos="50000">
                <a:srgbClr val="f9e7e9"/>
              </a:gs>
              <a:gs pos="100000">
                <a:srgbClr val="db4d61"/>
              </a:gs>
            </a:gsLst>
            <a:lin ang="5400000"/>
          </a:gradFill>
          <a:ln w="9360">
            <a:solidFill>
              <a:srgbClr val="db4d61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е размахивайте рукой с инструментом и не кладите его на край ст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4149720"/>
            <a:ext cx="8534160" cy="398880"/>
          </a:xfrm>
          <a:prstGeom prst="rect">
            <a:avLst/>
          </a:prstGeom>
          <a:gradFill rotWithShape="0">
            <a:gsLst>
              <a:gs pos="0">
                <a:srgbClr val="b3fc3c"/>
              </a:gs>
              <a:gs pos="50000">
                <a:srgbClr val="f0fdda"/>
              </a:gs>
              <a:gs pos="100000">
                <a:srgbClr val="b3fc3c"/>
              </a:gs>
            </a:gsLst>
            <a:lin ang="5400000"/>
          </a:gradFill>
          <a:ln w="9360">
            <a:solidFill>
              <a:srgbClr val="b3fc3c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вет на вашу работу должен падать с левой ст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5013360"/>
            <a:ext cx="8534160" cy="703800"/>
          </a:xfrm>
          <a:prstGeom prst="rect">
            <a:avLst/>
          </a:prstGeom>
          <a:gradFill rotWithShape="0">
            <a:gsLst>
              <a:gs pos="0">
                <a:srgbClr val="dd4bdd"/>
              </a:gs>
              <a:gs pos="50000">
                <a:srgbClr val="f9e6f9"/>
              </a:gs>
              <a:gs pos="100000">
                <a:srgbClr val="dd4bdd"/>
              </a:gs>
            </a:gsLst>
            <a:lin ang="5400000"/>
          </a:gradFill>
          <a:ln w="9360">
            <a:solidFill>
              <a:srgbClr val="dd4bdd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Положение тела во время работы должно быть удобным, расстояние от глаз до изделия 25 – 30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6021360"/>
            <a:ext cx="8534160" cy="703800"/>
          </a:xfrm>
          <a:prstGeom prst="rect">
            <a:avLst/>
          </a:prstGeom>
          <a:gradFill rotWithShape="0">
            <a:gsLst>
              <a:gs pos="0">
                <a:srgbClr val="ffff29"/>
              </a:gs>
              <a:gs pos="50000">
                <a:srgbClr val="fefee2"/>
              </a:gs>
              <a:gs pos="100000">
                <a:srgbClr val="ffff29"/>
              </a:gs>
            </a:gsLst>
            <a:lin ang="5400000"/>
          </a:gradFill>
          <a:ln w="9360">
            <a:solidFill>
              <a:srgbClr val="ffff29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случае плохого самочувствия, отложите работу и поставьте в известность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395280" cy="333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311120" y="27036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0" t="0" r="61030" b="34057"/>
          <a:stretch/>
        </p:blipFill>
        <p:spPr>
          <a:xfrm>
            <a:off x="503280" y="3139920"/>
            <a:ext cx="3564000" cy="2737080"/>
          </a:xfrm>
          <a:prstGeom prst="rect">
            <a:avLst/>
          </a:prstGeom>
          <a:ln w="76320">
            <a:solidFill>
              <a:srgbClr val="25521e"/>
            </a:solidFill>
            <a:miter/>
          </a:ln>
        </p:spPr>
      </p:pic>
      <p:sp>
        <p:nvSpPr>
          <p:cNvPr id="244" name=""/>
          <p:cNvSpPr txBox="1"/>
          <p:nvPr/>
        </p:nvSpPr>
        <p:spPr>
          <a:xfrm>
            <a:off x="900000" y="333360"/>
            <a:ext cx="6624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5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Положение крючка</a:t>
            </a:r>
            <a:endParaRPr b="0" lang="en-US" sz="1800" spc="1" strike="noStrike">
              <a:ln w="9360">
                <a:solidFill>
                  <a:srgbClr val="cc99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     </a:t>
            </a:r>
            <a:r>
              <a:rPr b="0" lang="en-US" sz="1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в руке   </a:t>
            </a:r>
            <a:endParaRPr b="0" lang="en-US" sz="1800" spc="1" strike="noStrike">
              <a:ln w="9360">
                <a:solidFill>
                  <a:srgbClr val="cc99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324000" cy="189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rcRect l="50789" t="6956" r="10623" b="40990"/>
          <a:stretch/>
        </p:blipFill>
        <p:spPr>
          <a:xfrm>
            <a:off x="5075280" y="1916280"/>
            <a:ext cx="3529080" cy="2160360"/>
          </a:xfrm>
          <a:prstGeom prst="rect">
            <a:avLst/>
          </a:prstGeom>
          <a:ln w="76320">
            <a:solidFill>
              <a:srgbClr val="25521e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5358600" y="486252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ючок держать как н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5800" y="1982880"/>
            <a:ext cx="35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ючок держат как каранд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35280" y="242100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88000" y="422100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11600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Изучаемые разделы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487520"/>
            <a:ext cx="8964720" cy="9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552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дание изделий из текстильных и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елочных  материалов.  Рукодел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52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струирование и моделир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ечевого    изделия с цельнокроё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ка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52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териал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52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шин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52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хнология ведения дом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52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лектротехнические работы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52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3240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" action="ppaction://hlinkshowjump?jump=endshow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341360"/>
            <a:ext cx="86421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4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prstDash val="sysDot"/>
                  <a:miter/>
                </a:ln>
                <a:solidFill>
                  <a:srgbClr val="25521e"/>
                </a:solidFill>
                <a:latin typeface="Impact"/>
              </a:rPr>
              <a:t>Создание изделий </a:t>
            </a:r>
            <a:endParaRPr b="0" lang="en-US" sz="1800" spc="1" strike="noStrike">
              <a:ln w="9360">
                <a:solidFill>
                  <a:srgbClr val="ffff00"/>
                </a:solidFill>
                <a:prstDash val="sysDot"/>
                <a:miter/>
              </a:ln>
              <a:solidFill>
                <a:srgbClr val="25521e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prstDash val="sysDot"/>
                  <a:miter/>
                </a:ln>
                <a:solidFill>
                  <a:srgbClr val="25521e"/>
                </a:solidFill>
                <a:latin typeface="Impact"/>
              </a:rPr>
              <a:t>из текстильных и поделочных </a:t>
            </a:r>
            <a:endParaRPr b="0" lang="en-US" sz="1800" spc="1" strike="noStrike">
              <a:ln w="9360">
                <a:solidFill>
                  <a:srgbClr val="ffff00"/>
                </a:solidFill>
                <a:prstDash val="sysDot"/>
                <a:miter/>
              </a:ln>
              <a:solidFill>
                <a:srgbClr val="25521e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prstDash val="sysDot"/>
                  <a:miter/>
                </a:ln>
                <a:solidFill>
                  <a:srgbClr val="25521e"/>
                </a:solidFill>
                <a:latin typeface="Impact"/>
              </a:rPr>
              <a:t>материалов.  Рукоделие</a:t>
            </a:r>
            <a:endParaRPr b="0" lang="en-US" sz="1800" spc="1" strike="noStrike">
              <a:ln w="9360">
                <a:solidFill>
                  <a:srgbClr val="ffff00"/>
                </a:solidFill>
                <a:prstDash val="sysDot"/>
                <a:miter/>
              </a:ln>
              <a:solidFill>
                <a:srgbClr val="25521e"/>
              </a:solidFill>
              <a:latin typeface="Impact"/>
              <a:ea typeface="Impact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50920" cy="404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1341360"/>
            <a:ext cx="8642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148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Краткие сведения из истории старинного                                                                                                                                                                                    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руко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148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Вязание крючком в современной мод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148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Виды крючков.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148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Техника безопасности при вязании 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крюч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148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Положение крючка в ру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148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Основные виды пе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148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Строение верхней части столб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148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Вязание полот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148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Вязание по к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148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148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260280"/>
            <a:ext cx="69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714829"/>
                </a:solidFill>
                <a:latin typeface="Impact"/>
              </a:rPr>
              <a:t>Изучаемые вопросы</a:t>
            </a:r>
            <a:endParaRPr b="0" lang="en-US" sz="1800" spc="1" strike="noStrike">
              <a:ln w="9360">
                <a:solidFill>
                  <a:srgbClr val="cc9900"/>
                </a:solidFill>
                <a:miter/>
              </a:ln>
              <a:solidFill>
                <a:srgbClr val="714829"/>
              </a:solidFill>
              <a:latin typeface="Impact"/>
              <a:ea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324000" cy="404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755640" y="1628640"/>
            <a:ext cx="7848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8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25521e"/>
                </a:solidFill>
                <a:latin typeface="Impact"/>
              </a:rPr>
              <a:t>Краткие сведения</a:t>
            </a:r>
            <a:endParaRPr b="0" lang="en-US" sz="1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25521e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25521e"/>
                </a:solidFill>
                <a:latin typeface="Impact"/>
              </a:rPr>
              <a:t> </a:t>
            </a: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25521e"/>
                </a:solidFill>
                <a:latin typeface="Impact"/>
              </a:rPr>
              <a:t>из истории рукоделия</a:t>
            </a:r>
            <a:endParaRPr b="0" lang="en-US" sz="1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25521e"/>
              </a:solidFill>
              <a:latin typeface="Impact"/>
              <a:ea typeface="Impact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50920" cy="333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4360" y="441360"/>
            <a:ext cx="78483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521e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25521e"/>
                </a:solidFill>
                <a:latin typeface="Arial"/>
              </a:rPr>
              <a:t>Вспомним леген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521e"/>
                </a:solidFill>
                <a:latin typeface="Arial"/>
              </a:rPr>
              <a:t>                                            </a:t>
            </a:r>
            <a:r>
              <a:rPr b="1" lang="ru-RU" sz="2800" spc="-1" strike="noStrike">
                <a:solidFill>
                  <a:srgbClr val="25521e"/>
                </a:solidFill>
                <a:latin typeface="Arial"/>
              </a:rPr>
              <a:t>Древней Гре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521e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и мастериц, ткавших прозрачные, как воздух, ткани, славилась Арахна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гордилась Арахна своим искусством и решила вызвать на состязание саму богиню Аф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 видом седой, сгорбленной старухи предстала перед Арахной богиня и предостерегла гордячку –    нельзя быть выше богов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250920" cy="333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31840" y="13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169920"/>
            <a:ext cx="8207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послушалась Арахна старуху. Соткала она полотно, но боги не признали её победы.     Несчастная   Арахна не перенесла позора, решила покончить с соб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фина, спасла девушку, но превратила её в паука. И с тех пор паук Арахна вечно ткёт свою паут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50920" cy="333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210360" y="4581360"/>
            <a:ext cx="203364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11280" y="476280"/>
            <a:ext cx="40320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521e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521e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25521e"/>
                </a:solidFill>
                <a:latin typeface="Arial"/>
              </a:rPr>
              <a:t>В египетских гробницах найдены экземпляры некоторых вязанных вещей </a:t>
            </a:r>
            <a:r>
              <a:rPr b="1" lang="en-US" sz="2000" spc="-1" strike="noStrike">
                <a:solidFill>
                  <a:srgbClr val="25521e"/>
                </a:solidFill>
                <a:latin typeface="Arial"/>
              </a:rPr>
              <a:t>IV-V </a:t>
            </a:r>
            <a:r>
              <a:rPr b="1" lang="ru-RU" sz="2000" spc="-1" strike="noStrike">
                <a:solidFill>
                  <a:srgbClr val="25521e"/>
                </a:solidFill>
                <a:latin typeface="Arial"/>
              </a:rPr>
              <a:t>вв.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521e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25521e"/>
                </a:solidFill>
                <a:latin typeface="Arial"/>
              </a:rPr>
              <a:t>Одна из находок – детский носок, большой палец связан отдельно от остальных, так чтобы мог проходить ремешок сандал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9640" y="3871800"/>
            <a:ext cx="2808360" cy="2163960"/>
          </a:xfrm>
          <a:prstGeom prst="rect">
            <a:avLst/>
          </a:prstGeom>
          <a:ln w="76320">
            <a:solidFill>
              <a:srgbClr val="25521e"/>
            </a:solidFill>
            <a:miter/>
          </a:ln>
        </p:spPr>
      </p:pic>
      <p:pic>
        <p:nvPicPr>
          <p:cNvPr id="206" name="" descr="История вязания. Вязание крючком и спицами."/>
          <p:cNvPicPr/>
          <p:nvPr/>
        </p:nvPicPr>
        <p:blipFill>
          <a:blip r:embed="rId2"/>
          <a:stretch/>
        </p:blipFill>
        <p:spPr>
          <a:xfrm>
            <a:off x="5435640" y="836640"/>
            <a:ext cx="3095640" cy="5106960"/>
          </a:xfrm>
          <a:prstGeom prst="rect">
            <a:avLst/>
          </a:prstGeom>
          <a:ln w="76320">
            <a:solidFill>
              <a:srgbClr val="25521e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0" y="-27000"/>
            <a:ext cx="468360" cy="287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5280" y="180324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учное вязание до сих пор не утратило сво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пулярности, а связанные в ручную мод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удожественно оформленные вещи пользу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тоянным успех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язание было и остаётся популярным ви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кладного искусства благода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ограниченной возможности создавать нов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дные, тёплые вещи для детей и взросл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ля украшения своего д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16000" y="320760"/>
            <a:ext cx="691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fbf39"/>
                  </a:solidFill>
                  <a:prstDash val="lgDash"/>
                  <a:miter/>
                </a:ln>
                <a:solidFill>
                  <a:srgbClr val="006633"/>
                </a:solidFill>
                <a:latin typeface="Impact"/>
              </a:rPr>
              <a:t>Вязание крючком </a:t>
            </a:r>
            <a:endParaRPr b="0" lang="en-US" sz="1800" spc="1" strike="noStrike">
              <a:ln w="9360">
                <a:solidFill>
                  <a:srgbClr val="afbf39"/>
                </a:solidFill>
                <a:prstDash val="lgDash"/>
                <a:miter/>
              </a:ln>
              <a:solidFill>
                <a:srgbClr val="00663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fbf39"/>
                  </a:solidFill>
                  <a:prstDash val="lgDash"/>
                  <a:miter/>
                </a:ln>
                <a:solidFill>
                  <a:srgbClr val="006633"/>
                </a:solidFill>
                <a:latin typeface="Impact"/>
              </a:rPr>
              <a:t>в современной моде</a:t>
            </a:r>
            <a:endParaRPr b="0" lang="en-US" sz="1800" spc="1" strike="noStrike">
              <a:ln w="9360">
                <a:solidFill>
                  <a:srgbClr val="afbf39"/>
                </a:solidFill>
                <a:prstDash val="lgDash"/>
                <a:miter/>
              </a:ln>
              <a:solidFill>
                <a:srgbClr val="006633"/>
              </a:solidFill>
              <a:latin typeface="Impact"/>
              <a:ea typeface="Impact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468360" cy="333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08:44:35Z</dcterms:created>
  <dc:creator>Л.П. Лакомкина </dc:creator>
  <dc:description/>
  <dc:language>en-US</dc:language>
  <cp:lastModifiedBy>Your User Name</cp:lastModifiedBy>
  <dcterms:modified xsi:type="dcterms:W3CDTF">2009-03-18T12:32:05Z</dcterms:modified>
  <cp:revision>96</cp:revision>
  <dc:subject/>
  <dc:title> Мультимедийное наглядное пособие 7 кл, технология</dc:title>
</cp:coreProperties>
</file>