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00"/>
              </a:solidFill>
              <a:latin typeface="Arial Black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 Blac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 Black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D6A15-A096-4C2D-BB1D-78C1201633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20E7F-FB5B-4324-8721-ADA09A12EA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00"/>
              </a:solidFill>
              <a:latin typeface="Arial Black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A6A07-FCD1-4B26-876F-4BFE942E5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CA98F-9A17-4399-AAC0-4501B2DAB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1D246-A139-46FC-A63C-7DD9EBF80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6A2BF-B845-4DD9-9C05-8FDE120FC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44E18-F06B-4DDB-8167-D076DEB0F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509AE-AB22-4C04-94DD-FF671576E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9DE36-89C6-4027-B17F-96467DE70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7C228-2F0B-431A-AC73-9A66143B2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678BA-3C88-4BDF-838A-793D7EF1A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B86EF-0818-410E-95D0-399FE1E2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6740E-19C4-480A-B4AB-5E2C5FDC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987B1-6C54-4F07-8289-4961E8984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3EF2F-CCE8-4F80-A81D-5902111F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1C2CD-8C82-485B-9842-C685283D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1BFF3-2CA1-4A74-A4CE-EC513A4C6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8238C-806E-47E1-B5D8-17527B784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04F32-C222-4161-8DC1-AACA1B6A6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46414-1E2D-4621-9FA3-0B6984030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48890-A4EE-44E5-B9D5-7B299C763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43014-465A-49CE-A2BE-96E79085E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87843-E7AC-4051-B28C-3F67F300A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566B9-38AA-4751-9855-B59148A6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398F6-7E7F-4535-9965-58BFCA69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5E199-AE34-4D53-95C2-C7ECD3A0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88246-05C6-4C0F-8573-285F99AC3A09}" type="slidenum">
              <a:rPr b="0" lang="ru-RU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00"/>
                </a:solidFill>
                <a:latin typeface="Arial Black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00"/>
                </a:solidFill>
                <a:latin typeface="Arial Black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00"/>
                </a:solidFill>
                <a:latin typeface="Arial Black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00"/>
                </a:solidFill>
                <a:latin typeface="Arial Black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00"/>
                </a:solidFill>
                <a:latin typeface="Arial Black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00"/>
                </a:solidFill>
                <a:latin typeface="Arial Black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00"/>
                </a:solidFill>
                <a:latin typeface="Arial Black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00"/>
                </a:solidFill>
                <a:latin typeface="Arial Black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00"/>
                </a:solidFill>
                <a:latin typeface="Arial Black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00"/>
                </a:solidFill>
                <a:latin typeface="Arial Black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00"/>
                </a:solidFill>
                <a:latin typeface="Arial Black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00"/>
                  </a:solidFill>
                  <a:latin typeface="Arial Black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00"/>
                  </a:solidFill>
                  <a:latin typeface="Arial Black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00"/>
                  </a:solidFill>
                  <a:latin typeface="Arial Black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00"/>
                  </a:solidFill>
                  <a:latin typeface="Arial Black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00"/>
                  </a:solidFill>
                  <a:latin typeface="Arial Black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00"/>
                  </a:solidFill>
                  <a:latin typeface="Arial Black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00"/>
                  </a:solidFill>
                  <a:latin typeface="Arial Black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00"/>
                  </a:solidFill>
                  <a:latin typeface="Arial Black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00"/>
                  </a:solidFill>
                  <a:latin typeface="Arial Black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00"/>
                  </a:solidFill>
                  <a:latin typeface="Arial Black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 Blac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 Black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0175A-61C3-4745-9544-06DC9C5E4D36}" type="slidenum">
              <a:rPr b="0" lang="ru-RU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114" name="Object 4"/>
          <p:cNvGraphicFramePr/>
          <p:nvPr/>
        </p:nvGraphicFramePr>
        <p:xfrm>
          <a:off x="457200" y="2576520"/>
          <a:ext cx="4038480" cy="269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576520"/>
                    <a:ext cx="4038480" cy="26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8820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457200" y="549360"/>
          <a:ext cx="8075520" cy="5904000"/>
        </p:xfrm>
        <a:graphic>
          <a:graphicData uri="http://schemas.openxmlformats.org/drawingml/2006/table">
            <a:tbl>
              <a:tblPr/>
              <a:tblGrid>
                <a:gridCol w="5267160"/>
                <a:gridCol w="2808360"/>
              </a:tblGrid>
              <a:tr h="83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Уравнения</a:t>
                      </a:r>
                      <a:endParaRPr b="0" lang="en-US" sz="2800" spc="-1" strike="noStrike">
                        <a:solidFill>
                          <a:srgbClr val="3366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Буквы</a:t>
                      </a:r>
                      <a:endParaRPr b="0" lang="en-US" sz="2800" spc="-1" strike="noStrike">
                        <a:solidFill>
                          <a:srgbClr val="3366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4х +4 = 0</a:t>
                      </a:r>
                      <a:endParaRPr b="0" lang="en-US" sz="2800" spc="-1" strike="noStrike">
                        <a:solidFill>
                          <a:srgbClr val="3366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3366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2х =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2</a:t>
                      </a:r>
                      <a:endParaRPr b="0" lang="en-US" sz="2800" spc="-1" strike="noStrike">
                        <a:solidFill>
                          <a:srgbClr val="3366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Н</a:t>
                      </a:r>
                      <a:endParaRPr b="0" lang="en-US" sz="2800" spc="-1" strike="noStrike">
                        <a:solidFill>
                          <a:srgbClr val="3366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6х + 5 = 0</a:t>
                      </a:r>
                      <a:endParaRPr b="0" lang="en-US" sz="2800" spc="-1" strike="noStrike">
                        <a:solidFill>
                          <a:srgbClr val="3366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Ч</a:t>
                      </a:r>
                      <a:endParaRPr b="0" lang="en-US" sz="2800" spc="-1" strike="noStrike">
                        <a:solidFill>
                          <a:srgbClr val="3366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4 =0</a:t>
                      </a:r>
                      <a:endParaRPr b="0" lang="en-US" sz="2800" spc="-1" strike="noStrike">
                        <a:solidFill>
                          <a:srgbClr val="3366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3366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77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2х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3х = 0</a:t>
                      </a:r>
                      <a:endParaRPr b="0" lang="en-US" sz="2800" spc="-1" strike="noStrike">
                        <a:solidFill>
                          <a:srgbClr val="3366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Л</a:t>
                      </a:r>
                      <a:endParaRPr b="0" lang="en-US" sz="2800" spc="-1" strike="noStrike">
                        <a:solidFill>
                          <a:srgbClr val="3366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3)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1 (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3) +28 = 0</a:t>
                      </a:r>
                      <a:endParaRPr b="0" lang="en-US" sz="2800" spc="-1" strike="noStrike">
                        <a:solidFill>
                          <a:srgbClr val="3366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3366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105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Т</a:t>
                      </a:r>
                      <a:endParaRPr b="0" lang="en-US" sz="2800" spc="-1" strike="noStrike">
                        <a:solidFill>
                          <a:srgbClr val="3366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5" name="Object 37"/>
          <p:cNvGraphicFramePr/>
          <p:nvPr/>
        </p:nvGraphicFramePr>
        <p:xfrm>
          <a:off x="611280" y="5495760"/>
          <a:ext cx="2881080" cy="83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3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5495760"/>
                    <a:ext cx="2881080" cy="8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250920" y="496440"/>
            <a:ext cx="79642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1. Какое уравнение можно отнести к виду 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x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² = 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a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3366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2. Какое уравнение не является целым?</a:t>
            </a:r>
            <a:endParaRPr b="0" lang="en-US" sz="2400" spc="-1" strike="noStrike">
              <a:solidFill>
                <a:srgbClr val="3366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3. Какое уравнение решается вынесением общего множителя за скобки?</a:t>
            </a:r>
            <a:endParaRPr b="0" lang="en-US" sz="2400" spc="-1" strike="noStrike">
              <a:solidFill>
                <a:srgbClr val="3366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4. Какое уравнение можно решить, представив его левую часть в виде квадрата суммы двучлена?</a:t>
            </a:r>
            <a:endParaRPr b="0" lang="en-US" sz="2400" spc="-1" strike="noStrike">
              <a:solidFill>
                <a:srgbClr val="3366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5. Какое уравнение удобно решать по теореме, обратной теореме Виета?</a:t>
            </a:r>
            <a:endParaRPr b="0" lang="en-US" sz="2400" spc="-1" strike="noStrike">
              <a:solidFill>
                <a:srgbClr val="3366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6.Какое уравнение можно отнести к виду 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ax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b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3366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7.Какое уравнение решается введением новой переменной?</a:t>
            </a:r>
            <a:endParaRPr b="0" lang="en-US" sz="2400" spc="-1" strike="noStrike">
              <a:solidFill>
                <a:srgbClr val="336600"/>
              </a:solidFill>
              <a:latin typeface="Arial Black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187280" y="4869000"/>
          <a:ext cx="6913800" cy="1511280"/>
        </p:xfrm>
        <a:graphic>
          <a:graphicData uri="http://schemas.openxmlformats.org/drawingml/2006/table">
            <a:tbl>
              <a:tblPr/>
              <a:tblGrid>
                <a:gridCol w="987480"/>
                <a:gridCol w="989280"/>
                <a:gridCol w="987120"/>
                <a:gridCol w="986040"/>
                <a:gridCol w="987480"/>
                <a:gridCol w="988920"/>
                <a:gridCol w="987480"/>
              </a:tblGrid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3366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3366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3366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3366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3366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3366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3366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00"/>
                </a:solidFill>
                <a:latin typeface="Arial"/>
              </a:rPr>
              <a:t>П.12. № 266 (а,б), 276(а,б) 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6319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НИЛЬС АБЕЛЬ (1802—1829) —норвежский математик. Основатель общей теории алгебраических функций, внес большой вклад в математический анализ. Впервые доказал неразрешимость в ра­дикалах общего алгебраического уравнения 5-й степени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6715080" y="571680"/>
            <a:ext cx="1731960" cy="20160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11"/>
          <p:cNvSpPr/>
          <p:nvPr/>
        </p:nvSpPr>
        <p:spPr>
          <a:xfrm>
            <a:off x="611280" y="3465720"/>
            <a:ext cx="5960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ЭВАРИСТ ГАЛУА (1811—1832) — французский математик. Заложил основы современной алгеб­ры, ввел ряд фундаментальных ее понятий. Нашел необходимое и достаточное условие, которому удовлетворяет алгебраическое уравнение, раз­решимое в радикалах</a:t>
            </a:r>
            <a:endParaRPr b="0" lang="en-US" sz="2000" spc="-1" strike="noStrike">
              <a:solidFill>
                <a:srgbClr val="336600"/>
              </a:solidFill>
              <a:latin typeface="Arial Black"/>
            </a:endParaRPr>
          </a:p>
        </p:txBody>
      </p:sp>
      <p:pic>
        <p:nvPicPr>
          <p:cNvPr id="164" name="Picture 12" descr=""/>
          <p:cNvPicPr/>
          <p:nvPr/>
        </p:nvPicPr>
        <p:blipFill>
          <a:blip r:embed="rId2"/>
          <a:srcRect l="0" t="1520" r="0" b="0"/>
          <a:stretch/>
        </p:blipFill>
        <p:spPr>
          <a:xfrm>
            <a:off x="6500880" y="3571920"/>
            <a:ext cx="1881000" cy="19429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916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  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822960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Разложите на множители: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00"/>
                </a:solidFill>
                <a:latin typeface="Arial"/>
              </a:rPr>
              <a:t>а) 169 –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х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4800" spc="-1" strike="noStrike">
                <a:solidFill>
                  <a:srgbClr val="003300"/>
                </a:solidFill>
                <a:latin typeface="Arial"/>
              </a:rPr>
              <a:t> ;</a:t>
            </a: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00"/>
                </a:solidFill>
                <a:latin typeface="Arial"/>
              </a:rPr>
              <a:t>б) 1 – 6х + 9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х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4800" spc="-1" strike="noStrike">
                <a:solidFill>
                  <a:srgbClr val="003300"/>
                </a:solidFill>
                <a:latin typeface="Arial"/>
              </a:rPr>
              <a:t> ;</a:t>
            </a: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00"/>
                </a:solidFill>
                <a:latin typeface="Arial"/>
              </a:rPr>
              <a:t>в)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х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х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4800" spc="-1" strike="noStrike">
                <a:solidFill>
                  <a:srgbClr val="003300"/>
                </a:solidFill>
                <a:latin typeface="Arial"/>
              </a:rPr>
              <a:t>  - 16х + 16;</a:t>
            </a: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00"/>
                </a:solidFill>
                <a:latin typeface="Arial"/>
              </a:rPr>
              <a:t>г) 5х -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х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4800" spc="-1" strike="noStrike">
                <a:solidFill>
                  <a:srgbClr val="003300"/>
                </a:solidFill>
                <a:latin typeface="Arial"/>
              </a:rPr>
              <a:t> ;</a:t>
            </a: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119" name="Object 4"/>
          <p:cNvGraphicFramePr/>
          <p:nvPr/>
        </p:nvGraphicFramePr>
        <p:xfrm>
          <a:off x="7419960" y="2766960"/>
          <a:ext cx="1724040" cy="231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19960" y="2766960"/>
                    <a:ext cx="1724040" cy="23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Ответы: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7893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Times New Roman"/>
              </a:rPr>
              <a:t>а)</a:t>
            </a:r>
            <a:r>
              <a:rPr b="0" lang="en-US" sz="4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3300"/>
                </a:solidFill>
                <a:latin typeface="Times New Roman"/>
              </a:rPr>
              <a:t>169 –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003300"/>
                </a:solidFill>
                <a:latin typeface="Times New Roman"/>
              </a:rPr>
              <a:t> =(13-х)(13+х) ;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Times New Roman"/>
              </a:rPr>
              <a:t>б) 1 – 6х + 9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003300"/>
                </a:solidFill>
                <a:latin typeface="Times New Roman"/>
              </a:rPr>
              <a:t> = (1-3х)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en-US" sz="4000" spc="-1" strike="noStrike">
                <a:solidFill>
                  <a:srgbClr val="003300"/>
                </a:solidFill>
                <a:latin typeface="Times New Roman"/>
              </a:rPr>
              <a:t>;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Times New Roman"/>
              </a:rPr>
              <a:t>в)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003300"/>
                </a:solidFill>
                <a:latin typeface="Times New Roman"/>
              </a:rPr>
              <a:t>  - 16х + 16=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003300"/>
                </a:solidFill>
                <a:latin typeface="Times New Roman"/>
              </a:rPr>
              <a:t>(х-1)-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Times New Roman"/>
              </a:rPr>
              <a:t>16(х-1)=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Times New Roman"/>
              </a:rPr>
              <a:t>=(х-1)(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6</a:t>
            </a:r>
            <a:r>
              <a:rPr b="1" lang="en-US" sz="4000" spc="-1" strike="noStrike">
                <a:solidFill>
                  <a:srgbClr val="003300"/>
                </a:solidFill>
                <a:latin typeface="Times New Roman"/>
              </a:rPr>
              <a:t>)=(х-1)(х-4)(х+4);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Times New Roman"/>
              </a:rPr>
              <a:t>г) 5х -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х(5-х)</a:t>
            </a:r>
            <a:r>
              <a:rPr b="1" lang="en-US" sz="40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Найдите «лишнее выражение» </a:t>
            </a:r>
            <a:br>
              <a:rPr sz="4000"/>
            </a:b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7559640" cy="46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125" name="Object 4"/>
          <p:cNvGraphicFramePr/>
          <p:nvPr/>
        </p:nvGraphicFramePr>
        <p:xfrm>
          <a:off x="6611760" y="2843280"/>
          <a:ext cx="114480" cy="15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11760" y="2843280"/>
                    <a:ext cx="114480" cy="15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Rectangle 5"/>
          <p:cNvSpPr/>
          <p:nvPr/>
        </p:nvSpPr>
        <p:spPr>
          <a:xfrm flipH="1">
            <a:off x="1908000" y="2133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336600"/>
              </a:solidFill>
              <a:latin typeface="Arial Black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 Black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 Black"/>
            </a:endParaRPr>
          </a:p>
        </p:txBody>
      </p:sp>
      <p:graphicFrame>
        <p:nvGraphicFramePr>
          <p:cNvPr id="130" name="Object 8"/>
          <p:cNvGraphicFramePr/>
          <p:nvPr/>
        </p:nvGraphicFramePr>
        <p:xfrm>
          <a:off x="1000080" y="1951200"/>
          <a:ext cx="3500640" cy="14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00080" y="1951200"/>
                    <a:ext cx="3500640" cy="14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Rectangle 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 Black"/>
            </a:endParaRPr>
          </a:p>
        </p:txBody>
      </p:sp>
      <p:graphicFrame>
        <p:nvGraphicFramePr>
          <p:cNvPr id="133" name="Object 10"/>
          <p:cNvGraphicFramePr/>
          <p:nvPr/>
        </p:nvGraphicFramePr>
        <p:xfrm>
          <a:off x="611280" y="3573360"/>
          <a:ext cx="7786440" cy="1524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4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280" y="3573360"/>
                    <a:ext cx="778644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Rectangle 11"/>
          <p:cNvSpPr/>
          <p:nvPr/>
        </p:nvSpPr>
        <p:spPr>
          <a:xfrm>
            <a:off x="4386240" y="3245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6600"/>
              </a:solidFill>
              <a:latin typeface="Arial Black"/>
            </a:endParaRPr>
          </a:p>
        </p:txBody>
      </p:sp>
      <p:graphicFrame>
        <p:nvGraphicFramePr>
          <p:cNvPr id="136" name="Object 12"/>
          <p:cNvGraphicFramePr/>
          <p:nvPr/>
        </p:nvGraphicFramePr>
        <p:xfrm>
          <a:off x="-1486080" y="3365640"/>
          <a:ext cx="114480" cy="180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7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-1486080" y="3365640"/>
                    <a:ext cx="114480" cy="18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Rectangle 13"/>
          <p:cNvSpPr/>
          <p:nvPr/>
        </p:nvSpPr>
        <p:spPr>
          <a:xfrm>
            <a:off x="-1496520" y="2669040"/>
            <a:ext cx="5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"/>
                <a:ea typeface="Times New Roman"/>
              </a:rPr>
              <a:t>а)    </a:t>
            </a:r>
            <a:endParaRPr b="0" lang="en-US" sz="1400" spc="-1" strike="noStrike">
              <a:solidFill>
                <a:srgbClr val="336600"/>
              </a:solidFill>
              <a:latin typeface="Arial Black"/>
            </a:endParaRPr>
          </a:p>
        </p:txBody>
      </p:sp>
      <p:sp>
        <p:nvSpPr>
          <p:cNvPr id="139" name="Rectangle 14"/>
          <p:cNvSpPr/>
          <p:nvPr/>
        </p:nvSpPr>
        <p:spPr>
          <a:xfrm>
            <a:off x="1486080" y="336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 Black"/>
            </a:endParaRPr>
          </a:p>
        </p:txBody>
      </p:sp>
      <p:sp>
        <p:nvSpPr>
          <p:cNvPr id="140" name="Rectangle 15"/>
          <p:cNvSpPr/>
          <p:nvPr/>
        </p:nvSpPr>
        <p:spPr>
          <a:xfrm>
            <a:off x="214200" y="3630240"/>
            <a:ext cx="6476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66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  <a:ea typeface="Times New Roman"/>
              </a:rPr>
              <a:t>б)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Times New Roman"/>
              </a:rPr>
              <a:t>   </a:t>
            </a:r>
            <a:r>
              <a:rPr b="0" lang="en-US" sz="11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336600"/>
              </a:solidFill>
              <a:latin typeface="Arial Black"/>
            </a:endParaRPr>
          </a:p>
        </p:txBody>
      </p:sp>
      <p:sp>
        <p:nvSpPr>
          <p:cNvPr id="141" name="Rectangle 16"/>
          <p:cNvSpPr/>
          <p:nvPr/>
        </p:nvSpPr>
        <p:spPr>
          <a:xfrm>
            <a:off x="285840" y="2499120"/>
            <a:ext cx="7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а)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6600"/>
              </a:solidFill>
              <a:latin typeface="Arial Black"/>
            </a:endParaRPr>
          </a:p>
        </p:txBody>
      </p:sp>
      <p:sp>
        <p:nvSpPr>
          <p:cNvPr id="142" name="Rectangle 17"/>
          <p:cNvSpPr/>
          <p:nvPr/>
        </p:nvSpPr>
        <p:spPr>
          <a:xfrm>
            <a:off x="140328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00"/>
              </a:solidFill>
              <a:latin typeface="Arial Black"/>
            </a:endParaRPr>
          </a:p>
        </p:txBody>
      </p:sp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58996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Представьте многочлен 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(5х – 1)(2 + 2х) – 10(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х</a:t>
            </a:r>
            <a:r>
              <a:rPr b="1" lang="en-US" sz="3600" spc="-1" strike="noStrike" baseline="30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-4) 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в стандартном виде и определите его степень 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7272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imes New Roman"/>
              </a:rPr>
              <a:t>1) 20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3300"/>
                </a:solidFill>
                <a:latin typeface="Times New Roman"/>
              </a:rPr>
              <a:t>+ 8х + 38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imes New Roman"/>
              </a:rPr>
              <a:t>2)  8х + 38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imes New Roman"/>
              </a:rPr>
              <a:t>3) -8х + 38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imes New Roman"/>
              </a:rPr>
              <a:t>4) -20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3300"/>
                </a:solidFill>
                <a:latin typeface="Times New Roman"/>
              </a:rPr>
              <a:t>+ 8х - 38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57120" y="500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Решите уравнения:</a:t>
            </a:r>
            <a:br>
              <a:rPr sz="4400"/>
            </a:b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0040" y="2142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1)  3х +2 = 4                   Ответ: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)  х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 _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12х + 20 = 0          Ответ: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)  2х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 _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5х + 10 = 0        Ответ: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Arial"/>
              </a:rPr>
              <a:t>Индивидуальное задание: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-360" y="1428480"/>
            <a:ext cx="735804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а)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1) 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  + х 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х 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2 ( х – 1 )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) 9 х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- 18х 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х + 2 = 0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) ( 2 х 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3) 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12(2 х 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+ 3) +11 = 0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149" name="Object 10"/>
          <p:cNvGraphicFramePr/>
          <p:nvPr/>
        </p:nvGraphicFramePr>
        <p:xfrm>
          <a:off x="1285920" y="2571840"/>
          <a:ext cx="6215040" cy="100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920" y="2571840"/>
                    <a:ext cx="621504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-360" y="1571400"/>
            <a:ext cx="7715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300"/>
                </a:solidFill>
                <a:latin typeface="Century Gothic"/>
              </a:rPr>
              <a:t>Целые уравнения и его корни</a:t>
            </a:r>
            <a:endParaRPr b="0" lang="en-US" sz="6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324000" y="333360"/>
          <a:ext cx="8177040" cy="6429240"/>
        </p:xfrm>
        <a:graphic>
          <a:graphicData uri="http://schemas.openxmlformats.org/drawingml/2006/table">
            <a:tbl>
              <a:tblPr/>
              <a:tblGrid>
                <a:gridCol w="1439640"/>
                <a:gridCol w="1165320"/>
                <a:gridCol w="1571760"/>
                <a:gridCol w="1357200"/>
                <a:gridCol w="1285920"/>
                <a:gridCol w="1357200"/>
              </a:tblGrid>
              <a:tr h="595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Целые  уравнения</a:t>
                      </a:r>
                      <a:endParaRPr b="0" lang="en-US" sz="2800" spc="-1" strike="noStrike">
                        <a:solidFill>
                          <a:srgbClr val="3366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Линейные</a:t>
                      </a:r>
                      <a:endParaRPr b="0" lang="en-US" sz="1800" spc="-1" strike="noStrike">
                        <a:solidFill>
                          <a:srgbClr val="3366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Квадратные</a:t>
                      </a:r>
                      <a:endParaRPr b="0" lang="en-US" sz="1800" spc="-1" strike="noStrike">
                        <a:solidFill>
                          <a:srgbClr val="3366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Высших степеней.</a:t>
                      </a:r>
                      <a:endParaRPr b="0" lang="en-US" sz="1800" spc="-1" strike="noStrike">
                        <a:solidFill>
                          <a:srgbClr val="3366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Степень:</a:t>
                      </a:r>
                      <a:endParaRPr b="0" lang="en-US" sz="1600" spc="-1" strike="noStrike">
                        <a:solidFill>
                          <a:srgbClr val="3366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Степень:</a:t>
                      </a:r>
                      <a:endParaRPr b="0" lang="en-US" sz="1600" spc="-1" strike="noStrike">
                        <a:solidFill>
                          <a:srgbClr val="3366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Степень:</a:t>
                      </a:r>
                      <a:endParaRPr b="0" lang="en-US" sz="1600" spc="-1" strike="noStrike">
                        <a:solidFill>
                          <a:srgbClr val="3366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Общий вид:</a:t>
                      </a:r>
                      <a:endParaRPr b="0" lang="en-US" sz="1600" spc="-1" strike="noStrike">
                        <a:solidFill>
                          <a:srgbClr val="3366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Общий вид:</a:t>
                      </a:r>
                      <a:endParaRPr b="0" lang="en-US" sz="1600" spc="-1" strike="noStrike">
                        <a:solidFill>
                          <a:srgbClr val="3366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Общий вид:</a:t>
                      </a:r>
                      <a:endParaRPr b="0" lang="en-US" sz="1600" spc="-1" strike="noStrike">
                        <a:solidFill>
                          <a:srgbClr val="336600"/>
                        </a:solidFill>
                        <a:latin typeface="Arial Black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3366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74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Пример: </a:t>
                      </a:r>
                      <a:endParaRPr b="0" lang="en-US" sz="1600" spc="-1" strike="noStrike">
                        <a:solidFill>
                          <a:srgbClr val="3366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Неполные</a:t>
                      </a:r>
                      <a:endParaRPr b="0" lang="en-US" sz="1600" spc="-1" strike="noStrike">
                        <a:solidFill>
                          <a:srgbClr val="336600"/>
                        </a:solidFill>
                        <a:latin typeface="Arial Black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Пример:</a:t>
                      </a:r>
                      <a:endParaRPr b="0" lang="en-US" sz="1600" spc="-1" strike="noStrike">
                        <a:solidFill>
                          <a:srgbClr val="3366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Способ решения:</a:t>
                      </a:r>
                      <a:endParaRPr b="0" lang="en-US" sz="1600" spc="-1" strike="noStrike">
                        <a:solidFill>
                          <a:srgbClr val="336600"/>
                        </a:solidFill>
                        <a:latin typeface="Arial Black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Использование формул.</a:t>
                      </a:r>
                      <a:endParaRPr b="0" lang="en-US" sz="1600" spc="-1" strike="noStrike">
                        <a:solidFill>
                          <a:srgbClr val="3366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i="1" lang="en-US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Способ решения:</a:t>
                      </a:r>
                      <a:endParaRPr b="0" lang="en-US" sz="1600" spc="-1" strike="noStrike">
                        <a:solidFill>
                          <a:srgbClr val="336600"/>
                        </a:solidFill>
                        <a:latin typeface="Arial Black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Графический.</a:t>
                      </a:r>
                      <a:endParaRPr b="0" lang="en-US" sz="1600" spc="-1" strike="noStrike">
                        <a:solidFill>
                          <a:srgbClr val="3366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Способ решения:</a:t>
                      </a:r>
                      <a:endParaRPr b="0" lang="en-US" sz="1600" spc="-1" strike="noStrike">
                        <a:solidFill>
                          <a:srgbClr val="336600"/>
                        </a:solidFill>
                        <a:latin typeface="Arial Black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Аналитический.</a:t>
                      </a:r>
                      <a:endParaRPr b="0" lang="en-US" sz="1600" spc="-1" strike="noStrike">
                        <a:solidFill>
                          <a:srgbClr val="336600"/>
                        </a:solidFill>
                        <a:latin typeface="Arial Black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3366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94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Сложность вычисления, в школе не используем.</a:t>
                      </a:r>
                      <a:r>
                        <a:rPr b="0" lang="en-US" sz="2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3366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Пример: </a:t>
                      </a:r>
                      <a:endParaRPr b="0" lang="en-US" sz="1600" spc="-1" strike="noStrike">
                        <a:solidFill>
                          <a:srgbClr val="3366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Метод:</a:t>
                      </a:r>
                      <a:endParaRPr b="0" lang="en-US" sz="1600" spc="-1" strike="noStrike">
                        <a:solidFill>
                          <a:srgbClr val="3366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Разложение многочлена на множители.</a:t>
                      </a:r>
                      <a:endParaRPr b="0" lang="en-US" sz="1600" spc="-1" strike="noStrike">
                        <a:solidFill>
                          <a:srgbClr val="3366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3366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Пример: </a:t>
                      </a:r>
                      <a:endParaRPr b="0" lang="en-US" sz="1600" spc="-1" strike="noStrike">
                        <a:solidFill>
                          <a:srgbClr val="3366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Метод:</a:t>
                      </a:r>
                      <a:endParaRPr b="0" lang="en-US" sz="1600" spc="-1" strike="noStrike">
                        <a:solidFill>
                          <a:srgbClr val="3366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Метод введения новой переменной.</a:t>
                      </a:r>
                      <a:endParaRPr b="0" lang="en-US" sz="1600" spc="-1" strike="noStrike">
                        <a:solidFill>
                          <a:srgbClr val="3366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3366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Пример: </a:t>
                      </a:r>
                      <a:endParaRPr b="0" lang="en-US" sz="1600" spc="-1" strike="noStrike">
                        <a:solidFill>
                          <a:srgbClr val="3366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Полные</a:t>
                      </a:r>
                      <a:endParaRPr b="0" lang="en-US" sz="1600" spc="-1" strike="noStrike">
                        <a:solidFill>
                          <a:srgbClr val="336600"/>
                        </a:solidFill>
                        <a:latin typeface="Arial Black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imes New Roman"/>
                          <a:ea typeface="Times New Roman"/>
                        </a:rPr>
                        <a:t>Пример:</a:t>
                      </a:r>
                      <a:endParaRPr b="0" lang="en-US" sz="1600" spc="-1" strike="noStrike">
                        <a:solidFill>
                          <a:srgbClr val="3366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15:54:10Z</dcterms:created>
  <dc:creator>1</dc:creator>
  <dc:description/>
  <dc:language>en-US</dc:language>
  <cp:lastModifiedBy>1</cp:lastModifiedBy>
  <dcterms:modified xsi:type="dcterms:W3CDTF">2009-11-09T20:45:18Z</dcterms:modified>
  <cp:revision>25</cp:revision>
  <dc:subject/>
  <dc:title>   </dc:title>
</cp:coreProperties>
</file>