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85B-3E07-49AB-9B76-D2A98405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FDB-93E2-45E4-90AC-FE88C19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AA8-F22D-4821-9F5B-AC23560E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D19-BE4F-4CAD-BB29-29D37F1F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DB1D-C04C-4C5F-B986-2D469A37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0F42-A6DC-4031-B9DA-6CDB63CA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7381-BC06-4460-89B9-83F8F96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3B1C-7C69-437D-AE59-992B259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EB62-0534-4486-B860-9472B341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C85A-DCC7-45D5-A6AB-2ADA022C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FFC-62BB-4FA7-9D23-2E46CEF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A70-ABF7-42C8-99DE-E8D079A8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EA71-1EB1-433F-AE1D-32974BF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148E-A1C7-476A-A081-FC7F2EC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604E-0E25-4B57-BF44-7CDB76D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528-69EA-4D79-9EBB-4D247F7E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52A-111B-4E69-94A4-EB27A800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185-569D-4A25-B318-340CC23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6E-9D32-4EAC-9D62-FCB6970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BF1-C020-4C1B-9252-15582A39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EAD-B6C8-497D-AFD2-3A40EC7A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525-3DEB-4EBE-8BBA-9390C317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A56-101D-45AE-BABE-0AE07BD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EAA-EF42-4BFF-A5D7-9302077C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32B-CCFF-4CDB-BD3D-EBC539061F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D1A-A44D-4CFD-BC60-535B96659B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54936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ультимедийное наглядное пособие  п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технологии «Технология. Обслуживающий труд.   5-8 класс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0"/>
            <a:ext cx="505080" cy="260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558972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1" lang="en-US" sz="2000" spc="-1" strike="noStrike">
                <a:solidFill>
                  <a:srgbClr val="0228e4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228e4"/>
                </a:solidFill>
                <a:latin typeface="Arial"/>
              </a:rPr>
              <a:t>Автор-составитель, учитель технологии, первой квалификационной категории, СОШ №9 г. Набережные Челны, Л.П. Лаком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769400"/>
            <a:ext cx="86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жите фигурки на противень и поставьте в духовку на маленький огонь (примерно 75-100 градусов). Они должны просто высохнуть и стать очень тверд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емя их выпечки примерно 1,5 часа. После того, как фигурки испеклись и остыли останется лишь раскрасить их гуашевыми красками и покрыть лаком с двух сторон, так как соленое тесто после выпечки хорошо впитывает влагу из воздуха, и поделки могут размякн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71640" y="189000"/>
            <a:ext cx="66196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шка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кончательная отделка фигур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468360" cy="404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73872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Тесто можно сразу сделать цветным. Просто добавьте сухую краску-порошок сразу при замешивании теста в вод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Такая краска-порошок продается на рынке или хозяйственном магазине вместе с сухой синькой для бель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53964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8d8ec"/>
            </a:gs>
            <a:gs pos="100000">
              <a:srgbClr val="dcf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4760" y="1243080"/>
            <a:ext cx="822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Солёное те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3600" spc="-1" strike="noStrike" u="sng">
                <a:solidFill>
                  <a:srgbClr val="7e9ce8"/>
                </a:solidFill>
                <a:uFillTx/>
                <a:latin typeface="Times New Roman"/>
                <a:hlinkClick r:id="rId2" action="ppaction://hlinksldjump"/>
              </a:rPr>
              <a:t>Вышивка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Филь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язание крюч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язание сп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Вязание на «коклюшк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Бисеропле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озаика из скорлу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Флористика и роспись по стеклу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640" y="333360"/>
            <a:ext cx="6624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рукодел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9528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3794"/>
                </a:moveTo>
                <a:lnTo>
                  <a:pt x="20447" y="10800"/>
                </a:lnTo>
                <a:lnTo>
                  <a:pt x="643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8"/>
            </a:gs>
            <a:gs pos="100000">
              <a:srgbClr val="91fd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81920" y="471744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РАБОТА С СОЛЁНЫМ ТЕСТОМ (тестопластика)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58920" y="1989000"/>
            <a:ext cx="619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ёное тес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528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5f8"/>
            </a:gs>
            <a:gs pos="100000">
              <a:srgbClr val="91fd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39528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4756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Солёное тесто в последние годы стало очень популярным материалом для лепки - оно эластично, его легко обрабатывать, изделия из него долговечны, а работа с солёным тестом доставляет удовольствие и 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39528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159912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Times New Roman"/>
              </a:rPr>
              <a:t>соль «Экстра», пшеничная мука, растительное масло, вода, большая миска, стакан и столовая ложк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39528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68360" y="620640"/>
            <a:ext cx="4104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гриди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12500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Всыпьте в миску 1 стакан соли и 1 стакан муки и перемешайте соль с мукой столовой ложк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Затем влейте 1 столовую ложку растительного масла и полстакана воды, перемешайте ложкой и месите руками до однородного состояния так же, как обычное тест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920" y="260280"/>
            <a:ext cx="612144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приготовл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46836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7680"/>
            <a:ext cx="8713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Положите полученную мас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в полиэтиленовый пакет и поместите в холодильник на 2—3 часа. 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После этого из теста можно леп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Если после занятий лепкой у вас еще останется тесто, то храните его в холодильнике в полиэтиленовом пакете. Оно также может храниться в морозилке несколько месяце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0"/>
            <a:ext cx="502920" cy="404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695160"/>
            <a:ext cx="849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Налепите нужные вам фигурки (вспомните, как вы лепили в детстве из пластилина), при лепке можно воспользоваться также инструментами для лепк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специальными палочками для работы с пластилином или глиной, а также подручными инструментами (шпилькой, ножом, зубочисткой и т.д.)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42920" y="549360"/>
            <a:ext cx="66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струменты и приспособл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468360" cy="3333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3794" y="6479"/>
                </a:moveTo>
                <a:lnTo>
                  <a:pt x="17806" y="13485"/>
                </a:lnTo>
                <a:lnTo>
                  <a:pt x="3794" y="2049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5:45:34Z</dcterms:created>
  <dc:creator> Лакомкина Л.П.</dc:creator>
  <dc:description/>
  <dc:language>en-US</dc:language>
  <cp:lastModifiedBy>Your User Name</cp:lastModifiedBy>
  <dcterms:modified xsi:type="dcterms:W3CDTF">2009-03-18T12:01:52Z</dcterms:modified>
  <cp:revision>53</cp:revision>
  <dc:subject/>
  <dc:title> Рукоделие</dc:title>
</cp:coreProperties>
</file>