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64B-D2AF-445B-AB59-2CB0998F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318-688F-4976-A927-E1D56812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25E-EB88-486A-A698-831E5C42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1AE-1CEC-405B-BEB5-192D0493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A421-5CE4-4481-B23A-D59DEF9F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DCAE-F1B2-4712-9C7D-1C0E8DA3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A88E-C14D-435F-AA8F-A8279885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B2A5-8518-4B1A-9AA2-7B23E0E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E23E-1898-44D3-B0B7-2996033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D7D4-12E3-4C28-8718-5B7666D3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6403-5D61-4300-A751-86B786A7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A02-F23D-4CDE-980F-FA596F5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6D49-0A61-4E9C-9959-15F3C19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0642-9236-494D-A13D-6606F508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7AA6-FF03-451A-8E34-FB130187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C81C-771E-4952-874D-5F999D6B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2621-11AA-45C7-8B7B-A576F45E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912-04E1-4042-A08F-F8CD929F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D0C-FB36-4774-A3E6-8731E22F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B0E-3076-4801-B506-51348CB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B93-A342-47A9-AB29-72B963A1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D30-1849-4B6D-B11F-92E650D1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259-5698-4079-92E8-35F9E977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A1B-9AA3-469F-8282-C7C60A10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24A1-66E4-4305-8F18-8DCEE87D628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0820-9983-4F94-84A5-FA5901465DB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3716280"/>
            <a:ext cx="116712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03640" y="3789360"/>
            <a:ext cx="116676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1039680" cy="1765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435640" y="4365720"/>
            <a:ext cx="1185840" cy="2012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877080" y="4869000"/>
            <a:ext cx="1015920" cy="1724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76360" y="907200"/>
            <a:ext cx="24433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не..,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1915560"/>
            <a:ext cx="2482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пр..спал,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62160" y="2780640"/>
            <a:ext cx="216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ам..лёт,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3440" y="3141000"/>
            <a:ext cx="2404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н..говик,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3499560"/>
            <a:ext cx="18734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о..нце.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556000" y="4869000"/>
            <a:ext cx="1008000" cy="145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427640" y="5373720"/>
            <a:ext cx="833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рфограм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езударные гласные в корн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авописание проверяемых согласных букв в корн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произносимые согласные в корн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единительные гласные о и е в сложных слов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двоенные согласные в корн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езударные гласные в приставк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илограм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раммат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россвор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рци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ска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95640" y="981000"/>
            <a:ext cx="4495680" cy="4514400"/>
            <a:chOff x="3995640" y="981000"/>
            <a:chExt cx="4495680" cy="4514400"/>
          </a:xfrm>
        </p:grpSpPr>
        <p:sp>
          <p:nvSpPr>
            <p:cNvPr id="113" name="Puzzle3"/>
            <p:cNvSpPr/>
            <p:nvPr/>
          </p:nvSpPr>
          <p:spPr>
            <a:xfrm>
              <a:off x="6185160" y="98100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Puzzle2"/>
            <p:cNvSpPr/>
            <p:nvPr/>
          </p:nvSpPr>
          <p:spPr>
            <a:xfrm>
              <a:off x="5671080" y="272880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Puzzle4"/>
            <p:cNvSpPr/>
            <p:nvPr/>
          </p:nvSpPr>
          <p:spPr>
            <a:xfrm>
              <a:off x="4579200" y="270180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Puzzle1"/>
            <p:cNvSpPr/>
            <p:nvPr/>
          </p:nvSpPr>
          <p:spPr>
            <a:xfrm>
              <a:off x="3995640" y="170676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с-сказ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63640" y="3357720"/>
            <a:ext cx="576000" cy="143640"/>
            <a:chOff x="1763640" y="3357720"/>
            <a:chExt cx="576000" cy="143640"/>
          </a:xfrm>
        </p:grpSpPr>
        <p:sp>
          <p:nvSpPr>
            <p:cNvPr id="119" name=""/>
            <p:cNvSpPr/>
            <p:nvPr/>
          </p:nvSpPr>
          <p:spPr>
            <a:xfrm>
              <a:off x="1763640" y="3357720"/>
              <a:ext cx="5760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39640" y="3357720"/>
              <a:ext cx="0" cy="143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419640" y="2924280"/>
            <a:ext cx="2232000" cy="898560"/>
          </a:xfrm>
          <a:prstGeom prst="cloudCallout">
            <a:avLst>
              <a:gd name="adj1" fmla="val 10597"/>
              <a:gd name="adj2" fmla="val 21590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236844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ска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суди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св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сердил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677400">
            <a:off x="1560600" y="2314440"/>
            <a:ext cx="8596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42920" y="2349360"/>
            <a:ext cx="576000" cy="144000"/>
            <a:chOff x="1042920" y="2349360"/>
            <a:chExt cx="576000" cy="144000"/>
          </a:xfrm>
        </p:grpSpPr>
        <p:sp>
          <p:nvSpPr>
            <p:cNvPr id="125" name=""/>
            <p:cNvSpPr/>
            <p:nvPr/>
          </p:nvSpPr>
          <p:spPr>
            <a:xfrm>
              <a:off x="1042920" y="2349360"/>
              <a:ext cx="5760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2349360"/>
              <a:ext cx="0" cy="144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rot="18677400">
            <a:off x="1488960" y="3324240"/>
            <a:ext cx="85968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677400">
            <a:off x="1562040" y="4330800"/>
            <a:ext cx="85968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8677400">
            <a:off x="1633320" y="5338800"/>
            <a:ext cx="85968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71640" y="3357720"/>
            <a:ext cx="576000" cy="143640"/>
            <a:chOff x="971640" y="3357720"/>
            <a:chExt cx="576000" cy="143640"/>
          </a:xfrm>
        </p:grpSpPr>
        <p:sp>
          <p:nvSpPr>
            <p:cNvPr id="131" name=""/>
            <p:cNvSpPr/>
            <p:nvPr/>
          </p:nvSpPr>
          <p:spPr>
            <a:xfrm>
              <a:off x="971640" y="3357720"/>
              <a:ext cx="5760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7640" y="3357720"/>
              <a:ext cx="0" cy="143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042920" y="4437000"/>
            <a:ext cx="576000" cy="143640"/>
            <a:chOff x="1042920" y="4437000"/>
            <a:chExt cx="576000" cy="143640"/>
          </a:xfrm>
        </p:grpSpPr>
        <p:sp>
          <p:nvSpPr>
            <p:cNvPr id="134" name=""/>
            <p:cNvSpPr/>
            <p:nvPr/>
          </p:nvSpPr>
          <p:spPr>
            <a:xfrm>
              <a:off x="1042920" y="4437000"/>
              <a:ext cx="5760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18920" y="4437000"/>
              <a:ext cx="0" cy="143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42920" y="5445000"/>
            <a:ext cx="576000" cy="144000"/>
            <a:chOff x="1042920" y="5445000"/>
            <a:chExt cx="576000" cy="144000"/>
          </a:xfrm>
        </p:grpSpPr>
        <p:sp>
          <p:nvSpPr>
            <p:cNvPr id="137" name=""/>
            <p:cNvSpPr/>
            <p:nvPr/>
          </p:nvSpPr>
          <p:spPr>
            <a:xfrm>
              <a:off x="1042920" y="5445000"/>
              <a:ext cx="5760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18920" y="5445000"/>
              <a:ext cx="0" cy="144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ассаж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россвор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ттеста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дноклассн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ссмеши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ттолкну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ттая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винти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77400">
            <a:off x="1193760" y="2367360"/>
            <a:ext cx="1462320" cy="164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715800">
            <a:off x="1126440" y="3006720"/>
            <a:ext cx="1977120" cy="22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8" y="2"/>
                </a:moveTo>
                <a:arcTo wR="10800" hR="10800" stAng="-5330738" swAng="5330738"/>
                <a:lnTo>
                  <a:pt x="10800" y="10800"/>
                </a:lnTo>
                <a:close/>
              </a:path>
              <a:path fill="none" w="21600" h="21600">
                <a:moveTo>
                  <a:pt x="11018" y="2"/>
                </a:moveTo>
                <a:arcTo wR="10800" hR="10800" stAng="-5330738" swAng="5330738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677400">
            <a:off x="1157040" y="4598280"/>
            <a:ext cx="827280" cy="85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388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38801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677400">
            <a:off x="1931400" y="4569120"/>
            <a:ext cx="1028160" cy="111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76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7612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677400">
            <a:off x="5326200" y="4581720"/>
            <a:ext cx="796320" cy="83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76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7612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677400">
            <a:off x="5465880" y="3976560"/>
            <a:ext cx="650160" cy="55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668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66868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8677400">
            <a:off x="5491080" y="3205440"/>
            <a:ext cx="796320" cy="83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76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7612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677400">
            <a:off x="5707080" y="2556000"/>
            <a:ext cx="796320" cy="83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76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7612"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48360" y="2563920"/>
            <a:ext cx="576000" cy="143640"/>
            <a:chOff x="5148360" y="2563920"/>
            <a:chExt cx="576000" cy="143640"/>
          </a:xfrm>
        </p:grpSpPr>
        <p:sp>
          <p:nvSpPr>
            <p:cNvPr id="150" name=""/>
            <p:cNvSpPr/>
            <p:nvPr/>
          </p:nvSpPr>
          <p:spPr>
            <a:xfrm>
              <a:off x="5148360" y="2563920"/>
              <a:ext cx="5760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24360" y="2563920"/>
              <a:ext cx="0" cy="143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219640" y="3213000"/>
            <a:ext cx="360360" cy="144000"/>
            <a:chOff x="5219640" y="3213000"/>
            <a:chExt cx="360360" cy="144000"/>
          </a:xfrm>
        </p:grpSpPr>
        <p:sp>
          <p:nvSpPr>
            <p:cNvPr id="153" name=""/>
            <p:cNvSpPr/>
            <p:nvPr/>
          </p:nvSpPr>
          <p:spPr>
            <a:xfrm>
              <a:off x="5219640" y="3213000"/>
              <a:ext cx="360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80000" y="3213000"/>
              <a:ext cx="0" cy="144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219640" y="3933720"/>
            <a:ext cx="360360" cy="142560"/>
            <a:chOff x="5219640" y="3933720"/>
            <a:chExt cx="360360" cy="142560"/>
          </a:xfrm>
        </p:grpSpPr>
        <p:sp>
          <p:nvSpPr>
            <p:cNvPr id="156" name=""/>
            <p:cNvSpPr/>
            <p:nvPr/>
          </p:nvSpPr>
          <p:spPr>
            <a:xfrm>
              <a:off x="5219640" y="3933720"/>
              <a:ext cx="360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39337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148360" y="4581360"/>
            <a:ext cx="215640" cy="144000"/>
            <a:chOff x="5148360" y="4581360"/>
            <a:chExt cx="215640" cy="144000"/>
          </a:xfrm>
        </p:grpSpPr>
        <p:sp>
          <p:nvSpPr>
            <p:cNvPr id="159" name=""/>
            <p:cNvSpPr/>
            <p:nvPr/>
          </p:nvSpPr>
          <p:spPr>
            <a:xfrm>
              <a:off x="5148360" y="4581360"/>
              <a:ext cx="2156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64000" y="4581360"/>
              <a:ext cx="0" cy="144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лодцы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43639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я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пражнение 4,стр.1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Homepage"/>
          <p:cNvSpPr/>
          <p:nvPr/>
        </p:nvSpPr>
        <p:spPr>
          <a:xfrm>
            <a:off x="6804000" y="2924280"/>
            <a:ext cx="1362240" cy="1876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548160"/>
            <a:ext cx="58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рисовать человек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торый рассердился (1 ряд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торый разозлился (2 ряд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торый рассвирепел (Зряд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пасибо за урок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9:51Z</dcterms:created>
  <dc:creator>Ильяс</dc:creator>
  <dc:description/>
  <dc:language>en-US</dc:language>
  <cp:lastModifiedBy>Фенера Табрисовна</cp:lastModifiedBy>
  <dcterms:modified xsi:type="dcterms:W3CDTF">2009-02-17T11:59:47Z</dcterms:modified>
  <cp:revision>8</cp:revision>
  <dc:subject/>
  <dc:title>Орфограммы</dc:title>
</cp:coreProperties>
</file>